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2A60-B146-41F7-9DE1-62741181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1A18-E326-4B53-8848-428EEF89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F617-4A1C-4046-933E-D1B9368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EFAC-2F23-418F-B1F1-4D83D42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064-BBB6-4C37-9493-69E5992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378D-F50B-4269-9225-B332973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0355-70BB-4E11-95EA-75397CDB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A9A-95EB-4222-BBF3-38E20F2B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F67B-1394-4990-8F73-26312BF4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1D8-C465-4CD2-80CD-76B8ADC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018-A405-4AA1-A194-EF80523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695F-D560-4336-B306-F8C9A6D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13FB-1CFD-43D9-84B7-FAF634E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2CAB-5E5E-4F14-B524-6228360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AC60-9B27-43DE-A5E5-E63FE6F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8DDE-110D-42E6-928E-839BD446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8456-C121-4AD7-84E7-B72ACE44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EA1D-7E61-4B8F-8B34-0DFCA684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C830-A9B6-449D-8E9C-3BACDC0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0B56-90D6-4F0A-B1B2-277CB332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D1FB-CC38-4B94-B7BC-5DD0B882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D296-E29D-40CF-A811-014A4AE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109D-77E9-4C01-9095-5FE0CAA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B58D-5E3F-4419-9061-16F5D37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398-18D2-473F-876B-BF90E029806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633-C0B6-4E2F-A6EA-477EE9AD32C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49644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19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растна Клончец неж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корен исполи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речен в тоз свят греш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Властелин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Клончец разцъфт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тайна нощна доб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то проехт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5267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сказал е Иса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 чудо на света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вицата Мари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несе ни Цве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енце тя ро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заповед на Б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трепетни звезд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35828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мил Цветец прекрас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ай-сладостен аро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цен е дар небес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жи светъл до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чудний Клончец тоз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делина сред мрак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сам Исус Христо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4:22Z</dcterms:modified>
  <cp:revision>50</cp:revision>
  <dc:subject/>
  <dc:title>Slide 1</dc:title>
</cp:coreProperties>
</file>